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0AF77DA7-D83E-4BAA-8DBE-06A82B53C473}"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EC94DA4C-EEC3-43B8-9CDB-74388F3FF06D}"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11E539-AA8D-42EE-994F-CD5E950D38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E2F9A-A62A-4074-A874-2630FB1E0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EE81B5-6D65-4C26-94CB-4AC18E1453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8BC2C4-F977-4C73-B7C5-006744526F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3C88B-E71B-445E-A562-6B5EB8807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EF239-CC65-4F4D-A12A-3CC7EC244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EA439-E847-41CB-91A5-B99DF79C5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9DCD5-5B81-462A-96E8-6FFFEFDE9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43F1F-4674-49E6-A923-EB24934FB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B98E5-A13A-482E-B614-BC62A2EE1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DDADE-D242-46F9-A9F5-34864863E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681A1-FA17-48F5-8190-C728C8FEDF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67CC5-AB4A-41B8-9205-C33F3C34DC04}"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1" descr=""/>
          <p:cNvPicPr/>
          <p:nvPr/>
        </p:nvPicPr>
        <p:blipFill>
          <a:blip r:embed="rId2"/>
          <a:stretch/>
        </p:blipFill>
        <p:spPr>
          <a:xfrm>
            <a:off x="6888240" y="655560"/>
            <a:ext cx="1785960" cy="420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B969C-33BE-46F8-AABA-8421A526062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6764F-01B2-49C3-851C-EE5CF9DF97A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C6FDB-C3B4-47A6-A845-B51C4F54B62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7074D-3038-4B43-AA30-46F4F5F3DA7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072AD-024E-402B-BC86-14B4B05179B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69161-1CEA-410F-87B1-EAD76A44AD6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7E724-5EEF-4948-8A94-F8B0AC6DAD8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EA1DE-25B7-4222-8671-186897B8584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82C1C-117F-426B-BAD1-2040CA8118B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45D60-E61C-46BB-A1AE-BF0354780ED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E435F-67A7-4E6C-AC5F-AC026938AF4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EF16F-9031-4050-B889-7D4ABCCF1EE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7950C-3B8C-4A8B-BEE1-15A08BF96FD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28DC5-999B-44C7-8BEB-492852B5FA8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819F3-0BFD-4780-970E-5DBE2CC1C5E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1B6AD-0E23-43B9-9B54-34B0144EEDF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EA099-9C87-479D-A918-B97EBFC4958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1CCE1-0EF3-46E0-93A3-C69142BCAD9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3228B-3405-4508-B359-4D5EE0F9651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AC63E-EC45-4BE2-9513-201234AD61D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BC513-6642-424C-97C0-0ED97EB0437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70BA1-E4EA-4F92-868E-AB0CBB5ACE4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FF4BE-1787-4D90-8968-C0495F5D418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A1F0F-A3C5-4AA1-A1C3-F12E1166D57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1322B-0AAA-4A3F-B761-8F7C4EF2DB1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5229E-5A74-4D8F-B3C7-172EFB5AF9B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0FB5E-3054-48C5-9029-E7F4B5A2D32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CB4B3-448C-48BC-A730-DC0A604BDE0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4760D-BFC4-4EDC-BF34-1A254975C00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D6F28-EE0C-42D0-BE19-FD61A426B38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6A9FC-F504-4A41-A992-B081EF8572A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702F3-57E9-4EFC-A8A0-8CA1F223A77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D16FE-AD12-48E2-BF05-0193E8395A2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7DB9D-E723-4494-946D-31DC3F28C24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ED0C1-1FC7-4A25-8557-E967A7FB180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71003-6FB6-4FDA-A7C2-A0D53979232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6536C-0822-430E-B978-7CF5C50D00E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40376-5B7B-46D4-ADF2-28B3444DE29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89018-4ACC-4A8F-B151-1A4D5CC511A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B44F2-6A9D-427A-9CCE-57D83538C1D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F96B4-8782-4F67-ABBC-03C67E95C6F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19-08-06T10:54:04Z</dcterms:modified>
  <cp:revision>75</cp:revision>
  <dc:subject/>
  <dc:title>Aims and Objectives</dc:title>
</cp:coreProperties>
</file>